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6.png" ContentType="image/png"/>
  <Override PartName="/ppt/media/image11.png" ContentType="image/png"/>
  <Override PartName="/ppt/media/image10.gif" ContentType="image/gif"/>
  <Override PartName="/ppt/media/image18.gif" ContentType="image/gif"/>
  <Override PartName="/ppt/media/image17.png" ContentType="image/png"/>
  <Override PartName="/ppt/media/image14.png" ContentType="image/png"/>
  <Override PartName="/ppt/media/image5.png" ContentType="image/png"/>
  <Override PartName="/ppt/media/image4.png" ContentType="image/png"/>
  <Override PartName="/ppt/media/image1.gif" ContentType="image/gif"/>
  <Override PartName="/ppt/media/image2.png" ContentType="image/png"/>
  <Override PartName="/ppt/media/image3.png" ContentType="image/png"/>
  <Override PartName="/ppt/media/image7.gif" ContentType="image/gif"/>
  <Override PartName="/ppt/media/image12.gif" ContentType="image/gif"/>
  <Override PartName="/ppt/media/image15.png" ContentType="image/png"/>
  <Override PartName="/ppt/media/image9.png" ContentType="image/png"/>
  <Override PartName="/ppt/media/image6.gif" ContentType="image/gi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5040" cy="12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3C04-BB66-4F16-9900-D35B5BFA7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56040"/>
            <a:ext cx="6865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6914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440" y="4039920"/>
            <a:ext cx="76914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C609-5E92-48E8-9F40-8826D561A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56040"/>
            <a:ext cx="6865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37533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6720" y="1828440"/>
            <a:ext cx="37533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440" y="4039920"/>
            <a:ext cx="37533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6720" y="4039920"/>
            <a:ext cx="37533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9D96-A185-4595-8576-A93A87CBA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356040"/>
            <a:ext cx="6865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2476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6080" y="1828440"/>
            <a:ext cx="2476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6720" y="1828440"/>
            <a:ext cx="2476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440" y="4039920"/>
            <a:ext cx="2476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6080" y="4039920"/>
            <a:ext cx="2476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6720" y="4039920"/>
            <a:ext cx="2476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2EF3-CF90-45C1-9218-13BBE82C9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56040"/>
            <a:ext cx="6865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769140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A1AC-E64C-4C10-8E4D-3C6E67A2F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56040"/>
            <a:ext cx="6865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6914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EA8C-86EE-43AD-9907-2C513D8B5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56040"/>
            <a:ext cx="6865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37533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6720" y="1828440"/>
            <a:ext cx="37533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5A69-411F-49CB-A2DB-7CDC46708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56040"/>
            <a:ext cx="6865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2192-8181-46DC-B5D3-01E862BB8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-356040"/>
            <a:ext cx="6865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B23C-9B0E-4E6A-8241-5F6BD875B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56040"/>
            <a:ext cx="6865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37533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6720" y="1828440"/>
            <a:ext cx="37533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440" y="4039920"/>
            <a:ext cx="37533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7D46-0972-4B61-B716-38081172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56040"/>
            <a:ext cx="6865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37533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6720" y="1828440"/>
            <a:ext cx="37533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6720" y="4039920"/>
            <a:ext cx="37533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084C-F067-4836-B3BB-EB3141D02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56040"/>
            <a:ext cx="6865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37533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6720" y="1828440"/>
            <a:ext cx="37533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440" y="4039920"/>
            <a:ext cx="76914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3DEF-477F-4E91-ACE9-5C2EF4BE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"/>
          <p:cNvSpPr/>
          <p:nvPr/>
        </p:nvSpPr>
        <p:spPr>
          <a:xfrm rot="18420000">
            <a:off x="7776360" y="-13680"/>
            <a:ext cx="116172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-356040"/>
            <a:ext cx="6865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828440"/>
            <a:ext cx="76914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00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6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00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DejaVu Sans Condensed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A056B9B-63EA-405E-93E2-4D6C190AE146}" type="slidenum">
              <a:rPr b="0" lang="ru-RU" sz="1800" spc="-1" strike="noStrike">
                <a:solidFill>
                  <a:srgbClr val="000000"/>
                </a:solidFill>
                <a:latin typeface="Calibri"/>
                <a:ea typeface="DejaVu Sans Condensed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Freeform 7"/>
          <p:cNvSpPr/>
          <p:nvPr/>
        </p:nvSpPr>
        <p:spPr>
          <a:xfrm rot="18420000">
            <a:off x="7862040" y="25920"/>
            <a:ext cx="116532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Freeform 8"/>
          <p:cNvSpPr/>
          <p:nvPr/>
        </p:nvSpPr>
        <p:spPr>
          <a:xfrm rot="18420000">
            <a:off x="7827480" y="19332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8" name="Group 9"/>
          <p:cNvGrpSpPr/>
          <p:nvPr/>
        </p:nvGrpSpPr>
        <p:grpSpPr>
          <a:xfrm>
            <a:off x="7920" y="5540400"/>
            <a:ext cx="1780920" cy="1242720"/>
            <a:chOff x="7920" y="5540400"/>
            <a:chExt cx="1780920" cy="1242720"/>
          </a:xfrm>
        </p:grpSpPr>
        <p:sp>
          <p:nvSpPr>
            <p:cNvPr id="9" name="Freeform 10"/>
            <p:cNvSpPr/>
            <p:nvPr/>
          </p:nvSpPr>
          <p:spPr>
            <a:xfrm>
              <a:off x="38160" y="5563800"/>
              <a:ext cx="1727280" cy="10274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" name="Freeform 11"/>
            <p:cNvSpPr/>
            <p:nvPr/>
          </p:nvSpPr>
          <p:spPr>
            <a:xfrm>
              <a:off x="1622520" y="5686200"/>
              <a:ext cx="110880" cy="2026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" name="Freeform 12"/>
            <p:cNvSpPr/>
            <p:nvPr/>
          </p:nvSpPr>
          <p:spPr>
            <a:xfrm>
              <a:off x="31680" y="5990400"/>
              <a:ext cx="1255680" cy="6483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" name="Freeform 13"/>
            <p:cNvSpPr/>
            <p:nvPr/>
          </p:nvSpPr>
          <p:spPr>
            <a:xfrm>
              <a:off x="204840" y="6044400"/>
              <a:ext cx="831960" cy="59148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" name="Freeform 14"/>
            <p:cNvSpPr/>
            <p:nvPr/>
          </p:nvSpPr>
          <p:spPr>
            <a:xfrm>
              <a:off x="770040" y="5606640"/>
              <a:ext cx="212760" cy="19008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" name="Freeform 15"/>
            <p:cNvSpPr/>
            <p:nvPr/>
          </p:nvSpPr>
          <p:spPr>
            <a:xfrm>
              <a:off x="1017720" y="6607440"/>
              <a:ext cx="118800" cy="17568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" name="Freeform 16"/>
            <p:cNvSpPr/>
            <p:nvPr/>
          </p:nvSpPr>
          <p:spPr>
            <a:xfrm>
              <a:off x="800280" y="5725800"/>
              <a:ext cx="304560" cy="6055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" name="Freeform 17"/>
            <p:cNvSpPr/>
            <p:nvPr/>
          </p:nvSpPr>
          <p:spPr>
            <a:xfrm>
              <a:off x="1060560" y="5698800"/>
              <a:ext cx="576000" cy="2743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" name="Freeform 18"/>
            <p:cNvSpPr/>
            <p:nvPr/>
          </p:nvSpPr>
          <p:spPr>
            <a:xfrm>
              <a:off x="550800" y="5861880"/>
              <a:ext cx="246240" cy="10440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18" name="Group 19"/>
            <p:cNvGrpSpPr/>
            <p:nvPr/>
          </p:nvGrpSpPr>
          <p:grpSpPr>
            <a:xfrm>
              <a:off x="7920" y="5540400"/>
              <a:ext cx="1780920" cy="1233000"/>
              <a:chOff x="7920" y="5540400"/>
              <a:chExt cx="1780920" cy="1233000"/>
            </a:xfrm>
          </p:grpSpPr>
          <p:grpSp>
            <p:nvGrpSpPr>
              <p:cNvPr id="19" name="Group 20"/>
              <p:cNvGrpSpPr/>
              <p:nvPr/>
            </p:nvGrpSpPr>
            <p:grpSpPr>
              <a:xfrm>
                <a:off x="792000" y="5654160"/>
                <a:ext cx="866520" cy="1119240"/>
                <a:chOff x="792000" y="5654160"/>
                <a:chExt cx="866520" cy="1119240"/>
              </a:xfrm>
            </p:grpSpPr>
            <p:sp>
              <p:nvSpPr>
                <p:cNvPr id="20" name="Freeform 21"/>
                <p:cNvSpPr/>
                <p:nvPr/>
              </p:nvSpPr>
              <p:spPr>
                <a:xfrm>
                  <a:off x="792000" y="5693760"/>
                  <a:ext cx="246960" cy="1360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1" name="Freeform 22"/>
                <p:cNvSpPr/>
                <p:nvPr/>
              </p:nvSpPr>
              <p:spPr>
                <a:xfrm>
                  <a:off x="1009080" y="6564600"/>
                  <a:ext cx="180000" cy="208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2" name="Freeform 23"/>
                <p:cNvSpPr/>
                <p:nvPr/>
              </p:nvSpPr>
              <p:spPr>
                <a:xfrm>
                  <a:off x="1591920" y="5654160"/>
                  <a:ext cx="66600" cy="183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3" name="Freeform 24"/>
              <p:cNvSpPr/>
              <p:nvPr/>
            </p:nvSpPr>
            <p:spPr>
              <a:xfrm>
                <a:off x="120600" y="5923800"/>
                <a:ext cx="943200" cy="394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4" name="Freeform 25"/>
              <p:cNvSpPr/>
              <p:nvPr/>
            </p:nvSpPr>
            <p:spPr>
              <a:xfrm>
                <a:off x="412920" y="6167880"/>
                <a:ext cx="385560" cy="23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" name="Freeform 26"/>
              <p:cNvSpPr/>
              <p:nvPr/>
            </p:nvSpPr>
            <p:spPr>
              <a:xfrm>
                <a:off x="896760" y="5841720"/>
                <a:ext cx="168480" cy="375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6" name="Group 27"/>
              <p:cNvGrpSpPr/>
              <p:nvPr/>
            </p:nvGrpSpPr>
            <p:grpSpPr>
              <a:xfrm>
                <a:off x="7920" y="5540400"/>
                <a:ext cx="1780920" cy="1071360"/>
                <a:chOff x="7920" y="5540400"/>
                <a:chExt cx="1780920" cy="1071360"/>
              </a:xfrm>
            </p:grpSpPr>
            <p:sp>
              <p:nvSpPr>
                <p:cNvPr id="27" name="Freeform 28"/>
                <p:cNvSpPr/>
                <p:nvPr/>
              </p:nvSpPr>
              <p:spPr>
                <a:xfrm>
                  <a:off x="1060920" y="6423840"/>
                  <a:ext cx="117000" cy="135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" name="Freeform 29"/>
                <p:cNvSpPr/>
                <p:nvPr/>
              </p:nvSpPr>
              <p:spPr>
                <a:xfrm>
                  <a:off x="7920" y="5916960"/>
                  <a:ext cx="1334160" cy="694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9" name="Freeform 30"/>
                <p:cNvSpPr/>
                <p:nvPr/>
              </p:nvSpPr>
              <p:spPr>
                <a:xfrm>
                  <a:off x="167760" y="5983560"/>
                  <a:ext cx="125280" cy="262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0" name="Freeform 31"/>
                <p:cNvSpPr/>
                <p:nvPr/>
              </p:nvSpPr>
              <p:spPr>
                <a:xfrm>
                  <a:off x="712080" y="5540400"/>
                  <a:ext cx="508680" cy="938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1" name="Freeform 32"/>
                <p:cNvSpPr/>
                <p:nvPr/>
              </p:nvSpPr>
              <p:spPr>
                <a:xfrm>
                  <a:off x="916560" y="5793480"/>
                  <a:ext cx="150480" cy="3974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2" name="Freeform 33"/>
                <p:cNvSpPr/>
                <p:nvPr/>
              </p:nvSpPr>
              <p:spPr>
                <a:xfrm>
                  <a:off x="519840" y="5761800"/>
                  <a:ext cx="307800" cy="2120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3" name="Freeform 34"/>
                <p:cNvSpPr/>
                <p:nvPr/>
              </p:nvSpPr>
              <p:spPr>
                <a:xfrm>
                  <a:off x="1043640" y="5616360"/>
                  <a:ext cx="745200" cy="333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4" name="Freeform 35"/>
                <p:cNvSpPr/>
                <p:nvPr/>
              </p:nvSpPr>
              <p:spPr>
                <a:xfrm>
                  <a:off x="1137240" y="5723640"/>
                  <a:ext cx="387000" cy="1342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35" name="Group 36"/>
          <p:cNvGrpSpPr/>
          <p:nvPr/>
        </p:nvGrpSpPr>
        <p:grpSpPr>
          <a:xfrm>
            <a:off x="8679960" y="2116080"/>
            <a:ext cx="382320" cy="4304880"/>
            <a:chOff x="8679960" y="2116080"/>
            <a:chExt cx="382320" cy="4304880"/>
          </a:xfrm>
        </p:grpSpPr>
        <p:sp>
          <p:nvSpPr>
            <p:cNvPr id="36" name="Freeform 37"/>
            <p:cNvSpPr/>
            <p:nvPr/>
          </p:nvSpPr>
          <p:spPr>
            <a:xfrm flipH="1">
              <a:off x="8679600" y="4158000"/>
              <a:ext cx="322200" cy="22629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7" name="Freeform 38"/>
            <p:cNvSpPr/>
            <p:nvPr/>
          </p:nvSpPr>
          <p:spPr>
            <a:xfrm flipH="1">
              <a:off x="8739720" y="2116080"/>
              <a:ext cx="322200" cy="2589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8" name="Group 39"/>
          <p:cNvGrpSpPr/>
          <p:nvPr/>
        </p:nvGrpSpPr>
        <p:grpSpPr>
          <a:xfrm>
            <a:off x="6539040" y="-198360"/>
            <a:ext cx="3687480" cy="3531960"/>
            <a:chOff x="6539040" y="-198360"/>
            <a:chExt cx="3687480" cy="3531960"/>
          </a:xfrm>
        </p:grpSpPr>
        <p:grpSp>
          <p:nvGrpSpPr>
            <p:cNvPr id="39" name="Group 40"/>
            <p:cNvGrpSpPr/>
            <p:nvPr/>
          </p:nvGrpSpPr>
          <p:grpSpPr>
            <a:xfrm>
              <a:off x="6539040" y="-198360"/>
              <a:ext cx="3687480" cy="3531960"/>
              <a:chOff x="6539040" y="-198360"/>
              <a:chExt cx="3687480" cy="3531960"/>
            </a:xfrm>
          </p:grpSpPr>
          <p:sp>
            <p:nvSpPr>
              <p:cNvPr id="40" name="Freeform 41"/>
              <p:cNvSpPr/>
              <p:nvPr/>
            </p:nvSpPr>
            <p:spPr>
              <a:xfrm rot="18420000">
                <a:off x="8618400" y="1728000"/>
                <a:ext cx="96840" cy="455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41" name="Group 42"/>
              <p:cNvGrpSpPr/>
              <p:nvPr/>
            </p:nvGrpSpPr>
            <p:grpSpPr>
              <a:xfrm>
                <a:off x="6539040" y="-198360"/>
                <a:ext cx="3687480" cy="3531960"/>
                <a:chOff x="6539040" y="-198360"/>
                <a:chExt cx="3687480" cy="3531960"/>
              </a:xfrm>
            </p:grpSpPr>
            <p:sp>
              <p:nvSpPr>
                <p:cNvPr id="42" name="Freeform 43"/>
                <p:cNvSpPr/>
                <p:nvPr/>
              </p:nvSpPr>
              <p:spPr>
                <a:xfrm rot="18420000">
                  <a:off x="7633800" y="-66240"/>
                  <a:ext cx="437400" cy="274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43" name="Freeform 44"/>
                <p:cNvSpPr/>
                <p:nvPr/>
              </p:nvSpPr>
              <p:spPr>
                <a:xfrm rot="18420000">
                  <a:off x="7775640" y="786960"/>
                  <a:ext cx="772560" cy="966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44" name="Freeform 45"/>
                <p:cNvSpPr/>
                <p:nvPr/>
              </p:nvSpPr>
              <p:spPr>
                <a:xfrm rot="18420000">
                  <a:off x="7281360" y="512280"/>
                  <a:ext cx="1453320" cy="1986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45" name="Freeform 46"/>
                <p:cNvSpPr/>
                <p:nvPr/>
              </p:nvSpPr>
              <p:spPr>
                <a:xfrm rot="18420000">
                  <a:off x="7291440" y="81000"/>
                  <a:ext cx="2181960" cy="2972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46" name="Freeform 47"/>
                <p:cNvSpPr/>
                <p:nvPr/>
              </p:nvSpPr>
              <p:spPr>
                <a:xfrm rot="18420000">
                  <a:off x="8359200" y="2313360"/>
                  <a:ext cx="483840" cy="266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47" name="Freeform 48"/>
                <p:cNvSpPr/>
                <p:nvPr/>
              </p:nvSpPr>
              <p:spPr>
                <a:xfrm rot="18420000">
                  <a:off x="8260920" y="2055960"/>
                  <a:ext cx="519840" cy="315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48" name="Freeform 49"/>
                <p:cNvSpPr/>
                <p:nvPr/>
              </p:nvSpPr>
              <p:spPr>
                <a:xfrm rot="18420000">
                  <a:off x="7669080" y="340200"/>
                  <a:ext cx="519840" cy="322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49" name="Freeform 50"/>
                <p:cNvSpPr/>
                <p:nvPr/>
              </p:nvSpPr>
              <p:spPr>
                <a:xfrm rot="18420000">
                  <a:off x="7587000" y="135720"/>
                  <a:ext cx="513360" cy="3034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50" name="Line 51"/>
            <p:cNvSpPr/>
            <p:nvPr/>
          </p:nvSpPr>
          <p:spPr>
            <a:xfrm>
              <a:off x="7731000" y="133200"/>
              <a:ext cx="65160" cy="150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685800" y="836640"/>
            <a:ext cx="77724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4356000" y="4941720"/>
            <a:ext cx="44244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1046160" y="900000"/>
            <a:ext cx="7134120" cy="27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ЗАКОН АРХИМЕДА.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ПЛАВАНИЕ ТЕЛ</a:t>
            </a:r>
            <a:r>
              <a:rPr b="1" lang="ru-RU" sz="54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5940360" y="4076640"/>
            <a:ext cx="2879640" cy="22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1"/>
          <p:cNvSpPr/>
          <p:nvPr/>
        </p:nvSpPr>
        <p:spPr>
          <a:xfrm>
            <a:off x="457200" y="135000"/>
            <a:ext cx="822960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755964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Команда «Красных»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«Научи яйцо плавать»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69464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ff00"/>
                </a:solidFill>
                <a:latin typeface="Times New Roman"/>
              </a:rPr>
              <a:t>Команда «Зеленных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Добейтесь, чтобы кусок пластилина плавал в воде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6694560" y="4500720"/>
            <a:ext cx="1944720" cy="194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1"/>
          <p:cNvSpPr/>
          <p:nvPr/>
        </p:nvSpPr>
        <p:spPr>
          <a:xfrm>
            <a:off x="539640" y="620640"/>
            <a:ext cx="7417080" cy="48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-401760"/>
            <a:ext cx="68691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Comic Sans MS;Bold"/>
              </a:rPr>
              <a:t>4. Конкурс «Эксперимент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3779640"/>
            <a:ext cx="7954920" cy="23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Comic Sans MS;Bold"/>
              </a:rPr>
              <a:t>Определите плотность соленой воды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240" y="1079280"/>
            <a:ext cx="347184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d02a0"/>
                </a:solidFill>
                <a:latin typeface="Comic Sans MS"/>
              </a:rPr>
              <a:t>«Один опыт я ставлю выше, </a:t>
            </a:r>
            <a:br>
              <a:rPr sz="2400"/>
            </a:br>
            <a:r>
              <a:rPr b="0" lang="ru-RU" sz="2400" spc="-1" strike="noStrike">
                <a:solidFill>
                  <a:srgbClr val="0d02a0"/>
                </a:solidFill>
                <a:latin typeface="Comic Sans MS"/>
              </a:rPr>
              <a:t>чем тысячу мнений, </a:t>
            </a:r>
            <a:br>
              <a:rPr sz="2400"/>
            </a:br>
            <a:r>
              <a:rPr b="0" lang="ru-RU" sz="2400" spc="-1" strike="noStrike">
                <a:solidFill>
                  <a:srgbClr val="0d02a0"/>
                </a:solidFill>
                <a:latin typeface="Comic Sans MS"/>
              </a:rPr>
              <a:t>рожденных только воображением».</a:t>
            </a:r>
            <a:br>
              <a:rPr sz="2400"/>
            </a:br>
            <a:r>
              <a:rPr b="0" lang="ru-RU" sz="2400" spc="-1" strike="noStrike">
                <a:solidFill>
                  <a:srgbClr val="0d02a0"/>
                </a:solidFill>
                <a:latin typeface="Comic Sans MS"/>
              </a:rPr>
              <a:t> М. В. Ломоносо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1584360" y="1312920"/>
            <a:ext cx="2556000" cy="174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-400320"/>
            <a:ext cx="6869160" cy="21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Comic Sans MS;Bold"/>
              </a:rPr>
              <a:t>5. Конкурс «Порешаем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685800" y="1917720"/>
            <a:ext cx="7694640" cy="414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446040" y="1260360"/>
            <a:ext cx="7655040" cy="19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 сейчас мы приступим к решению задач. 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8" name="Picture 4" descr="file:///C:/Users/User/Desktop/web2.jpg"/>
          <p:cNvPicPr/>
          <p:nvPr/>
        </p:nvPicPr>
        <p:blipFill>
          <a:blip r:embed=""/>
          <a:stretch/>
        </p:blipFill>
        <p:spPr>
          <a:xfrm>
            <a:off x="3419640" y="3151080"/>
            <a:ext cx="4140000" cy="29685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"/>
          <p:cNvPicPr/>
          <p:nvPr/>
        </p:nvPicPr>
        <p:blipFill>
          <a:blip r:embed="rId1"/>
          <a:stretch/>
        </p:blipFill>
        <p:spPr>
          <a:xfrm>
            <a:off x="3714840" y="2928960"/>
            <a:ext cx="3786120" cy="355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-401760"/>
            <a:ext cx="68691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ДОМАШНЕЕ ЗАДАНИ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6946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&amp; 8 стр. 183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зад. 14 стр. 120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Дополнительное задание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Определить выталкивающую силу, действующую на воздушный шарик , заполненный гелием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5715000" y="4697280"/>
            <a:ext cx="270036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691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Comic Sans MS;Bold"/>
              </a:rPr>
              <a:t>ПОДСЧЕТ РЕЗУЛЬТАТОВ. САМООЦЕНК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4640" cy="43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6480000" y="360360"/>
            <a:ext cx="133380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6" name=""/>
          <p:cNvGraphicFramePr/>
          <p:nvPr/>
        </p:nvGraphicFramePr>
        <p:xfrm>
          <a:off x="720720" y="1800360"/>
          <a:ext cx="7559640" cy="3956040"/>
        </p:xfrm>
        <a:graphic>
          <a:graphicData uri="http://schemas.openxmlformats.org/drawingml/2006/table">
            <a:tbl>
              <a:tblPr/>
              <a:tblGrid>
                <a:gridCol w="2517840"/>
                <a:gridCol w="2519280"/>
                <a:gridCol w="2522520"/>
              </a:tblGrid>
              <a:tr h="658800">
                <a:tc>
                  <a:txBody>
                    <a:bodyPr lIns="90000" rIns="90000" tIns="1022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Arial"/>
                          <a:ea typeface="MS Gothic"/>
                        </a:rPr>
                        <a:t>Ф.И. ученика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1022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Arial"/>
                          <a:ea typeface="MS Gothic"/>
                        </a:rPr>
                        <a:t>Самооценка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1022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Arial"/>
                          <a:ea typeface="MS Gothic"/>
                        </a:rPr>
                        <a:t>Оценка группы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658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658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58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658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6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179280"/>
            <a:ext cx="6869160" cy="15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А знаешь ли ты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464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2560" indent="-68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 наполненной водой ванне спокойно полежать минут пять-десять, а затем подняться из воды, то тело почувствует резкое увеличение нашего вес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82560" indent="0">
              <a:spcBef>
                <a:spcPts val="799"/>
              </a:spcBef>
              <a:buNone/>
              <a:tabLst>
                <a:tab algn="l" pos="0"/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82560" indent="-681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3959280" y="4500720"/>
            <a:ext cx="2879640" cy="180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79280"/>
            <a:ext cx="6869160" cy="15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А знаешь ли ты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4640" cy="43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720720" y="2700360"/>
            <a:ext cx="774072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лотность организмов, живущих в воде почти не отличается от плотности воды, поэтому прочные скелеты им не нужны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3780000" y="4500720"/>
            <a:ext cx="2700000" cy="161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1"/>
          <p:cNvSpPr/>
          <p:nvPr/>
        </p:nvSpPr>
        <p:spPr>
          <a:xfrm>
            <a:off x="690480" y="-312840"/>
            <a:ext cx="6869160" cy="15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А знаешь ли ты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720720" y="1079640"/>
            <a:ext cx="7559640" cy="44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 берегов Египта, водится удивительная рыба фагак. Приближение опасности заставляет фагака быстро заглатывать воду. При этом в пищеводе рыбы происходит бурное разложение продуктов питания с выделением значительного количества газов. В результате тело фагака сильно раздувается, и, в соответствии с законом Архимеда, он быстро всплывает на поверхность водоема. Здесь он плавает, повиснув вверх брюхом, пока выделившиеся в его организме газы не улетучатся. После этого сила тяжести опускает его на дно водоема, где он укрывается среди придонных водорослей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5940360" y="5219640"/>
            <a:ext cx="2340000" cy="16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WordArt 1"/>
          <p:cNvSpPr txBox="1"/>
          <p:nvPr/>
        </p:nvSpPr>
        <p:spPr>
          <a:xfrm>
            <a:off x="360360" y="27000"/>
            <a:ext cx="7921800" cy="645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спасибо всем за работу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3"/>
          <a:stretch/>
        </p:blipFill>
        <p:spPr>
          <a:xfrm>
            <a:off x="6048360" y="3887640"/>
            <a:ext cx="259236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8358120" cy="671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воду опущен медный кубик массой 100 г и тонкая медная пластина массой 10 г. Одинакова ли выталкивающая сила в обоих случаях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усок мрамора весит столько, сколько весит медная тара. Что из них легче удержать в воде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 чашкам весов подвешены две гири равного веса: фарфоровая и железная. Нарушится ли равновесие весов, если гири опустить в сосуд с водой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Какое заключение можно сделать о величине архимедовой силы, проводя соответствующие опыты на Луне, где сила тяжести в шесть раз меньше, чем на Земле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Действует ли на искусственном спутнике Земли закон Паскаля и архимедова сила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Из какого материала надо сделать гири, чтобы при точном взвешивании можно было не вводить поправки на потерю веса в воздухе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179280" y="476280"/>
            <a:ext cx="8805960" cy="56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-27000" y="539640"/>
            <a:ext cx="9280440" cy="50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a0020d"/>
                </a:solidFill>
                <a:latin typeface="Times New Roman"/>
              </a:rPr>
              <a:t>Цель урока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общить и систематизировать знания учащихся о действии жидкостей и газов на погруженные в них тела;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• выяснить условия плавания тел, опираясь на понятия о выталкивающей силе и силе тяжести;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формировать умения объяснять причины появления выталкивающей силы, производить расчет и измерение её опытным путём;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360360" y="179280"/>
          <a:ext cx="8642520" cy="6483600"/>
        </p:xfrm>
        <a:graphic>
          <a:graphicData uri="http://schemas.openxmlformats.org/drawingml/2006/table">
            <a:tbl>
              <a:tblPr/>
              <a:tblGrid>
                <a:gridCol w="1871640"/>
                <a:gridCol w="2152800"/>
                <a:gridCol w="2776320"/>
                <a:gridCol w="1841760"/>
              </a:tblGrid>
              <a:tr h="1284480"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Gothic"/>
                        </a:rPr>
                        <a:t>Конкурс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810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Gothic"/>
                        </a:rPr>
                        <a:t>Количество баллов за конкур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810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Gothic"/>
                        </a:rPr>
                        <a:t>Набранное количество баллов командой за каждое зад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810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Gothic"/>
                        </a:rPr>
                        <a:t>Общее количество баллов за конкур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695160">
                <a:tc>
                  <a:txBody>
                    <a:bodyPr lIns="90000" rIns="90000" tIns="810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Gothic"/>
                        </a:rPr>
                        <a:t>1. «Разминка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810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Gothic"/>
                        </a:rPr>
                        <a:t>1 балл за 1 правильный отв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809640">
                <a:tc>
                  <a:txBody>
                    <a:bodyPr lIns="90000" rIns="90000" tIns="810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Gothic"/>
                        </a:rPr>
                        <a:t>2. Тес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810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Gothic"/>
                        </a:rPr>
                        <a:t>2 балла за 1 правильный отв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809640">
                <a:tc>
                  <a:txBody>
                    <a:bodyPr lIns="90000" rIns="90000" tIns="810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Gothic"/>
                        </a:rPr>
                        <a:t>3. «Почемучка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810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Gothic"/>
                        </a:rPr>
                        <a:t>3 балла за 1 правильный отв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809640">
                <a:tc>
                  <a:txBody>
                    <a:bodyPr lIns="90000" rIns="90000" tIns="810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Gothic"/>
                        </a:rPr>
                        <a:t>4. «Эксперимент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810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Gothic"/>
                        </a:rPr>
                        <a:t>5 баллов за  правильный отв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23880">
                <a:tc>
                  <a:txBody>
                    <a:bodyPr lIns="90000" rIns="90000" tIns="810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Gothic"/>
                        </a:rPr>
                        <a:t>5. «Порешаем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810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Gothic"/>
                        </a:rPr>
                        <a:t>5 баллов за задачу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990720">
                <a:tc>
                  <a:txBody>
                    <a:bodyPr lIns="90000" rIns="90000" tIns="810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Gothic"/>
                        </a:rPr>
                        <a:t>6. Дополнительные балл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60440">
                <a:tc>
                  <a:txBody>
                    <a:bodyPr lIns="90000" rIns="90000" tIns="810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Gothic"/>
                        </a:rPr>
                        <a:t>Итого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99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" descr="file:///C:/Users/User/Desktop/gxoZstcDO4w.jpg"/>
          <p:cNvPicPr/>
          <p:nvPr/>
        </p:nvPicPr>
        <p:blipFill>
          <a:blip r:embed=""/>
          <a:stretch/>
        </p:blipFill>
        <p:spPr>
          <a:xfrm>
            <a:off x="5759280" y="1619280"/>
            <a:ext cx="3240360" cy="50403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2"/>
          <p:cNvSpPr/>
          <p:nvPr/>
        </p:nvSpPr>
        <p:spPr>
          <a:xfrm>
            <a:off x="179280" y="1440000"/>
            <a:ext cx="895032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Архимед открыл закон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Он не только для корон…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Открытый путь – нелегкий путь,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Но человеку не свернуть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«Что», «почему» за ним следят,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Чтоб шел вперед,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А не назад,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Вот почему из года год,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Наука движется вперед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  <a:ea typeface="Lucida Sans Unicode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5962680" y="1714680"/>
            <a:ext cx="3181320" cy="421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685800" y="-401760"/>
            <a:ext cx="6869160" cy="21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. Конкурс «Разминка»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353880" y="1565280"/>
            <a:ext cx="1446480" cy="1854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"/>
          <p:cNvPicPr/>
          <p:nvPr/>
        </p:nvPicPr>
        <p:blipFill>
          <a:blip r:embed="rId2">
            <a:lum contrast="36000"/>
          </a:blip>
          <a:srcRect l="0" t="3629" r="59634" b="0"/>
          <a:stretch/>
        </p:blipFill>
        <p:spPr>
          <a:xfrm>
            <a:off x="3419640" y="1619280"/>
            <a:ext cx="1618920" cy="1979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"/>
          <p:cNvPicPr/>
          <p:nvPr/>
        </p:nvPicPr>
        <p:blipFill>
          <a:blip r:embed="rId3">
            <a:lum contrast="36000"/>
          </a:blip>
          <a:srcRect l="52016" t="3629" r="0" b="54437"/>
          <a:stretch/>
        </p:blipFill>
        <p:spPr>
          <a:xfrm>
            <a:off x="1376280" y="4319640"/>
            <a:ext cx="2043360" cy="1439640"/>
          </a:xfrm>
          <a:prstGeom prst="rect">
            <a:avLst/>
          </a:prstGeom>
          <a:ln w="0">
            <a:noFill/>
          </a:ln>
        </p:spPr>
      </p:pic>
      <p:grpSp>
        <p:nvGrpSpPr>
          <p:cNvPr id="106" name="Group 5"/>
          <p:cNvGrpSpPr/>
          <p:nvPr/>
        </p:nvGrpSpPr>
        <p:grpSpPr>
          <a:xfrm>
            <a:off x="5076720" y="3500280"/>
            <a:ext cx="3854520" cy="3203640"/>
            <a:chOff x="5076720" y="3500280"/>
            <a:chExt cx="3854520" cy="3203640"/>
          </a:xfrm>
        </p:grpSpPr>
        <p:pic>
          <p:nvPicPr>
            <p:cNvPr id="107" name="Picture 6" descr=""/>
            <p:cNvPicPr/>
            <p:nvPr/>
          </p:nvPicPr>
          <p:blipFill>
            <a:blip r:embed="rId4"/>
            <a:stretch/>
          </p:blipFill>
          <p:spPr>
            <a:xfrm>
              <a:off x="5076720" y="3500280"/>
              <a:ext cx="3854520" cy="32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7"/>
            <p:cNvSpPr/>
            <p:nvPr/>
          </p:nvSpPr>
          <p:spPr>
            <a:xfrm>
              <a:off x="5076720" y="3500280"/>
              <a:ext cx="3854520" cy="32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1"/>
          <p:cNvSpPr/>
          <p:nvPr/>
        </p:nvSpPr>
        <p:spPr>
          <a:xfrm>
            <a:off x="3240000" y="527040"/>
            <a:ext cx="3240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 Black"/>
              </a:rPr>
              <a:t>Тест.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Text Box 2"/>
          <p:cNvSpPr/>
          <p:nvPr/>
        </p:nvSpPr>
        <p:spPr>
          <a:xfrm>
            <a:off x="1440000" y="1800360"/>
            <a:ext cx="701964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ff00"/>
                </a:solidFill>
                <a:latin typeface="Times New Roman"/>
              </a:rPr>
              <a:t>А сейчас мы проверяем,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ff00"/>
                </a:solidFill>
                <a:latin typeface="Times New Roman"/>
              </a:rPr>
              <a:t>                                 </a:t>
            </a:r>
            <a:r>
              <a:rPr b="1" lang="ru-RU" sz="3200" spc="-1" strike="noStrike">
                <a:solidFill>
                  <a:srgbClr val="00ff00"/>
                </a:solidFill>
                <a:latin typeface="Times New Roman"/>
              </a:rPr>
              <a:t>Что умеем и что знаем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5327640" y="4314960"/>
            <a:ext cx="3816360" cy="254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324000" y="333360"/>
            <a:ext cx="8640720" cy="61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79280"/>
            <a:ext cx="6869160" cy="15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ПРОВЕРКА ТЕСТ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979640" y="1332000"/>
            <a:ext cx="16192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1 - б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2 - г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3 - а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4 - в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5 - б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6 - б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7 - б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8 - а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9 - б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10 -  а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3851280" y="1905120"/>
            <a:ext cx="5111640" cy="4805280"/>
            <a:chOff x="3851280" y="1905120"/>
            <a:chExt cx="5111640" cy="4805280"/>
          </a:xfrm>
        </p:grpSpPr>
        <p:pic>
          <p:nvPicPr>
            <p:cNvPr id="116" name="Picture 5" descr=""/>
            <p:cNvPicPr/>
            <p:nvPr/>
          </p:nvPicPr>
          <p:blipFill>
            <a:blip r:embed="rId1"/>
            <a:stretch/>
          </p:blipFill>
          <p:spPr>
            <a:xfrm>
              <a:off x="3851280" y="1905120"/>
              <a:ext cx="5111640" cy="48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 Box 6"/>
            <p:cNvSpPr/>
            <p:nvPr/>
          </p:nvSpPr>
          <p:spPr>
            <a:xfrm>
              <a:off x="3851280" y="1905120"/>
              <a:ext cx="5111640" cy="48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00000" y="178920"/>
            <a:ext cx="684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Comic Sans MS;Bold"/>
              </a:rPr>
              <a:t>3. Конкурс «Почемучка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60360" y="1260000"/>
            <a:ext cx="802008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omic Sans MS;Bold"/>
              </a:rPr>
              <a:t>Почему нельзя тушить горящий керосин, заливая его водой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0" name="Picture 3" descr="file:///C:/Users/User/Desktop/12813223.jpg"/>
          <p:cNvPicPr/>
          <p:nvPr/>
        </p:nvPicPr>
        <p:blipFill>
          <a:blip r:embed=""/>
          <a:stretch/>
        </p:blipFill>
        <p:spPr>
          <a:xfrm>
            <a:off x="1440000" y="2700360"/>
            <a:ext cx="7559640" cy="4140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1"/>
          <a:stretch/>
        </p:blipFill>
        <p:spPr>
          <a:xfrm>
            <a:off x="1500120" y="2619360"/>
            <a:ext cx="7012080" cy="42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1"/>
          <p:cNvSpPr/>
          <p:nvPr/>
        </p:nvSpPr>
        <p:spPr>
          <a:xfrm>
            <a:off x="179280" y="179280"/>
            <a:ext cx="8639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omic Sans MS;Bold"/>
              </a:rPr>
              <a:t>Показать на карте море в котором нельзя утонуть и объяснить почему?</a:t>
            </a:r>
            <a:br>
              <a:rPr sz="40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Text Box 2"/>
          <p:cNvSpPr/>
          <p:nvPr/>
        </p:nvSpPr>
        <p:spPr>
          <a:xfrm>
            <a:off x="685800" y="2133720"/>
            <a:ext cx="769608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4" name="Picture 3" descr="file:///C:/Users/User/Desktop/karta-izrailya-na-russkom-yazyke-s.jpg"/>
          <p:cNvPicPr/>
          <p:nvPr/>
        </p:nvPicPr>
        <p:blipFill>
          <a:blip r:embed=""/>
          <a:stretch/>
        </p:blipFill>
        <p:spPr>
          <a:xfrm>
            <a:off x="2340000" y="1260360"/>
            <a:ext cx="6659640" cy="5597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1857240" y="1285920"/>
            <a:ext cx="715176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4:39:29Z</dcterms:created>
  <dc:creator>Макс</dc:creator>
  <dc:description/>
  <dc:language>en-US</dc:language>
  <cp:lastModifiedBy>Admin</cp:lastModifiedBy>
  <dcterms:modified xsi:type="dcterms:W3CDTF">2016-04-02T04:30:28Z</dcterms:modified>
  <cp:revision>11</cp:revision>
  <dc:subject/>
  <dc:title>ЭНЕРГИЯ ДОБРЫХ ДЕЛ</dc:title>
</cp:coreProperties>
</file>